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1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1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1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EEA-2BF4-4809-AB93-F20DBCB01FD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F91-4940-4371-BA95-80E5A9406C85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FE422A6A-C2B7-4125-93DB-D670A27018F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B31-FA59-4F52-A2CB-1F0565B2D7B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8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B64683F6-EB54-42AB-B083-7597FEB437D3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ftr" idx="2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638F-605E-4D6E-A0AE-D216031A0360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88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3632E7D-E668-4F3B-BB40-BC8525700F4D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0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CE4-0BB2-4DE7-A198-16F0857528F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ED3695B-A51E-470F-BFBD-6FB34921DD2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6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79C5-15F7-4987-8FAA-B2A2A76E04FE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179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B580E664-3A3F-492F-932C-5B8AAFAB2A27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1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7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8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725-D594-4E43-BDCD-AB9D092D403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25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7E981DB5-54F2-4F1D-AFAF-6F46E8F4EB03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27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9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D83E-D09A-4C64-A6D9-9691C856E4C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7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C88B47C-B732-4CDC-963C-6D9C97B2CDCC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73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any presentation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dt" idx="1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95E-704C-4B60-80EF-E68930DCA54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317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3A377902-2E0D-4457-AA7F-FC96194CFCA8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19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3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86D7-92E5-45AF-9835-EAD96CB18E7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363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FFCCDF5-F87A-4C8E-A25E-C9F035174195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65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5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4188-6AE8-422B-B675-2B4AFE37DFB9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6"/>
          </p:nvPr>
        </p:nvSpPr>
        <p:spPr>
          <a:xfrm>
            <a:off x="364680" y="6600600"/>
            <a:ext cx="630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SPC/GIZ “Coping with Climate Change in the  Pacific Island Region” CCC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9" descr=""/>
          <p:cNvPicPr/>
          <p:nvPr/>
        </p:nvPicPr>
        <p:blipFill>
          <a:blip r:embed="rId1"/>
          <a:stretch/>
        </p:blipFill>
        <p:spPr>
          <a:xfrm>
            <a:off x="4665600" y="3371760"/>
            <a:ext cx="4465800" cy="3029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7000" y="3371760"/>
            <a:ext cx="4719600" cy="3029040"/>
          </a:xfrm>
          <a:prstGeom prst="rect">
            <a:avLst/>
          </a:prstGeom>
          <a:ln w="0">
            <a:noFill/>
          </a:ln>
        </p:spPr>
      </p:pic>
      <p:sp>
        <p:nvSpPr>
          <p:cNvPr id="41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582-B1AC-4102-B6B3-63F6E8476F77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8" name="Title 1"/>
          <p:cNvSpPr/>
          <p:nvPr/>
        </p:nvSpPr>
        <p:spPr>
          <a:xfrm>
            <a:off x="12600" y="1411200"/>
            <a:ext cx="9144000" cy="196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EU - GIZ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Adapting to Climate Change and Sustainable Energy (ACSE)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9" name="Subtitle 2"/>
          <p:cNvSpPr/>
          <p:nvPr/>
        </p:nvSpPr>
        <p:spPr>
          <a:xfrm>
            <a:off x="711360" y="5902200"/>
            <a:ext cx="7775280" cy="486000"/>
          </a:xfrm>
          <a:prstGeom prst="rect">
            <a:avLst/>
          </a:prstGeom>
          <a:solidFill>
            <a:srgbClr val="007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Calibri"/>
              </a:rPr>
              <a:t>Dr. Wulf Killmann, GIZ Programme Director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  <a:ea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88960" y="9810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61600" y="1720800"/>
            <a:ext cx="8093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Part of the regional EU- ACSE programm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EDF 10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18.64 Million Euro/5 years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15 ACP countries, 14 PICs &amp; Timor Lest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Focus implementation on the ground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Managed by GIZ Pacific Office in Suva, Fiji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Implemented by PACPs with partners of their choic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39680" y="1698480"/>
            <a:ext cx="7034400" cy="4523040"/>
          </a:xfrm>
          <a:prstGeom prst="rect">
            <a:avLst/>
          </a:prstGeom>
          <a:ln w="0">
            <a:noFill/>
          </a:ln>
        </p:spPr>
      </p:pic>
      <p:sp>
        <p:nvSpPr>
          <p:cNvPr id="42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09F-7A04-40B9-9D51-7BFBAA306198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255600" y="1492200"/>
            <a:ext cx="8631360" cy="4815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426" name="Oval 5"/>
          <p:cNvSpPr/>
          <p:nvPr/>
        </p:nvSpPr>
        <p:spPr>
          <a:xfrm>
            <a:off x="847800" y="2111400"/>
            <a:ext cx="2581200" cy="91908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255600" y="2411280"/>
            <a:ext cx="671400" cy="5781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5349960" y="5008680"/>
            <a:ext cx="581040" cy="52524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9" name="Oval 9"/>
          <p:cNvSpPr/>
          <p:nvPr/>
        </p:nvSpPr>
        <p:spPr>
          <a:xfrm>
            <a:off x="3375000" y="3003480"/>
            <a:ext cx="701640" cy="577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0" name="Oval 10"/>
          <p:cNvSpPr/>
          <p:nvPr/>
        </p:nvSpPr>
        <p:spPr>
          <a:xfrm>
            <a:off x="6467400" y="4797360"/>
            <a:ext cx="955800" cy="7365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1" name="Oval 11"/>
          <p:cNvSpPr/>
          <p:nvPr/>
        </p:nvSpPr>
        <p:spPr>
          <a:xfrm>
            <a:off x="5878440" y="5008680"/>
            <a:ext cx="588960" cy="52524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2" name="Oval 12"/>
          <p:cNvSpPr/>
          <p:nvPr/>
        </p:nvSpPr>
        <p:spPr>
          <a:xfrm>
            <a:off x="4456080" y="3751200"/>
            <a:ext cx="801720" cy="579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3" name="Oval 13"/>
          <p:cNvSpPr/>
          <p:nvPr/>
        </p:nvSpPr>
        <p:spPr>
          <a:xfrm>
            <a:off x="741240" y="3317760"/>
            <a:ext cx="2235240" cy="128772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790720" y="3898800"/>
            <a:ext cx="1438560" cy="579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086280" y="1758960"/>
            <a:ext cx="1895400" cy="9414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5592600" y="4397400"/>
            <a:ext cx="573120" cy="415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402080" y="4719600"/>
            <a:ext cx="947880" cy="577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3586320" y="4719600"/>
            <a:ext cx="761760" cy="471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4033800" y="2700360"/>
            <a:ext cx="4289400" cy="12351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3"/>
          <a:stretch/>
        </p:blipFill>
        <p:spPr>
          <a:xfrm>
            <a:off x="0" y="4924440"/>
            <a:ext cx="2460600" cy="1933560"/>
          </a:xfrm>
          <a:prstGeom prst="rect">
            <a:avLst/>
          </a:prstGeom>
          <a:ln w="15840">
            <a:solidFill>
              <a:srgbClr val="0070c0"/>
            </a:solidFill>
            <a:miter/>
          </a:ln>
        </p:spPr>
      </p:pic>
      <p:sp>
        <p:nvSpPr>
          <p:cNvPr id="441" name="Oval 21"/>
          <p:cNvSpPr/>
          <p:nvPr/>
        </p:nvSpPr>
        <p:spPr>
          <a:xfrm>
            <a:off x="741240" y="5025960"/>
            <a:ext cx="1812960" cy="12873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6360" y="1074600"/>
            <a:ext cx="7034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CSE  Technical Staff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40840" y="1698480"/>
            <a:ext cx="84330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Coordina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5 Technical experts based with GIZ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Energy, food security &amp; livelihoods, civil engineering,  coastal &amp; marine ecosystem-based adaptation, information, kowledge &amp; M&amp;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Assist countries to prepare concepts &amp;  proposal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Advise countries and partners in implementation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Form part of the Regional Technical Support Mechanism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In country coordinator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644A-534B-4683-99C7-57DABB2BCDC6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760" y="1147680"/>
            <a:ext cx="777528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ception Phase (12 months)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3A2C-6661-401B-B353-63196286346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4200" y="1789200"/>
            <a:ext cx="79754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Staff recruitmen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Regional Inception workshop on May 29-30 in Suva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Identification of focal points within each PACP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Set up of the  Regional Steering Committe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Set up of Assessment Boar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Call for Concept Notes in first half 2014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Countries select their implementing partne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e645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e6452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71520" y="1035000"/>
            <a:ext cx="70358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ception Phase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8200" y="1698480"/>
            <a:ext cx="82836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Evaluation &amp; selection of concept note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4 sub-regional workshops to share concept notes and receive feedback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Writing full proposals – assistance from RTSM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GIZ signs contracts with implementing partners identified by PACPs in selected proposal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Move to implementation phase (48 months)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There may be a round 2 of calls for proposals depending on the results of round 1 and funding availability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C05-D0B8-4FED-978F-CB2C1ED85961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31760" y="941040"/>
            <a:ext cx="703440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U- GCCA TIMOR LESTE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61600" y="1398240"/>
            <a:ext cx="8093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452"/>
                </a:solidFill>
                <a:latin typeface="Calibri"/>
              </a:rPr>
              <a:t>Contribution to the sustainable well-being of rural communities in Timor Leste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4 Million Euro/5 years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GIZ  &amp;  Portuguese Cooperation  CAMOE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CCA mainstreaming  &amp; adaptation activities on the ground in selected watershed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Lead-Counterpart: Ministry of Agricultur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In coordination with other GoTL institutions on climate change / rural developmen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36360" y="1074600"/>
            <a:ext cx="7034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GCCA results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40840" y="1734840"/>
            <a:ext cx="8433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Meterological mechanisms are  operational &amp; monitor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Awareness on climate change  &amp; its impacts rais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Capacities on cc adaptation strengthen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Resilience of communities enhanced  (watershed management, development planning)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FE80-5F8A-4950-A379-A6E41B426C59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9" name="Title 1"/>
          <p:cNvSpPr/>
          <p:nvPr/>
        </p:nvSpPr>
        <p:spPr>
          <a:xfrm>
            <a:off x="927000" y="4265640"/>
            <a:ext cx="703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eans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0" name="Content Placeholder 2"/>
          <p:cNvSpPr/>
          <p:nvPr/>
        </p:nvSpPr>
        <p:spPr>
          <a:xfrm>
            <a:off x="231840" y="4889520"/>
            <a:ext cx="84326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01320" indent="-3013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Policy and technical advise through national, regional and international TA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01320" indent="-3013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Limited= provision of inputs and tools for implementation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090440" y="1555920"/>
            <a:ext cx="7034400" cy="676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58920" indent="-35892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D913-36B5-4AE3-A06A-9F23C820D63E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31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0" y="2505240"/>
            <a:ext cx="4984920" cy="3398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"/>
          <p:cNvPicPr/>
          <p:nvPr/>
        </p:nvPicPr>
        <p:blipFill>
          <a:blip r:embed="rId2"/>
          <a:stretch/>
        </p:blipFill>
        <p:spPr>
          <a:xfrm>
            <a:off x="4606920" y="2505240"/>
            <a:ext cx="4537080" cy="339876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"/>
          <p:cNvSpPr/>
          <p:nvPr/>
        </p:nvSpPr>
        <p:spPr>
          <a:xfrm>
            <a:off x="2106720" y="2505240"/>
            <a:ext cx="4572000" cy="581400"/>
          </a:xfrm>
          <a:prstGeom prst="rect">
            <a:avLst/>
          </a:prstGeom>
          <a:solidFill>
            <a:srgbClr val="0070c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VINAKA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3:16:46Z</dcterms:created>
  <dc:creator>Claudia Ilting</dc:creator>
  <dc:description/>
  <cp:keywords>GIZ-Leerfolie</cp:keywords>
  <dc:language>en-US</dc:language>
  <cp:lastModifiedBy>Katya</cp:lastModifiedBy>
  <cp:lastPrinted>2012-07-19T10:16:59Z</cp:lastPrinted>
  <dcterms:modified xsi:type="dcterms:W3CDTF">2015-01-16T12:03:02Z</dcterms:modified>
  <cp:revision>172</cp:revision>
  <dc:subject/>
  <dc:title>PowerPoint Presentation</dc:title>
</cp:coreProperties>
</file>